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4C48-DBFF-419B-933F-DCC328A6C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E29A-51AD-4263-8014-F0424692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EC5F-C300-425A-97BF-318370A80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580F-88BB-4E50-B807-F77AD7E72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8F03-BC3D-4166-9732-754EA6BA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34CA-AC74-41E0-9C17-42FC3F37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06AF-559E-4E0A-8EBF-5CD4E7F4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79B0-F336-4467-B0CB-BC0992B7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276D-682B-4BEB-8303-100CF78B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33DC-5FB5-4E6C-B4A1-6C5FBC2F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D7BD-047D-448E-97E7-45F8E844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6E5B-1242-4CDD-A830-8CFD70F0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024A-1DD9-40C7-9B0B-FB0EB4DBFE1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ffff66"/>
                </a:solidFill>
                <a:latin typeface="Times New Roman"/>
              </a:rPr>
              <a:t>関数型プログラミング（６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86160"/>
            <a:ext cx="64008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66"/>
                </a:solidFill>
                <a:latin typeface="Times New Roman"/>
              </a:rPr>
              <a:t>金子敬一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８．４　小さな論理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6360" y="1982880"/>
            <a:ext cx="7634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証明における仮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5840" y="2457360"/>
            <a:ext cx="88581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１リットルが２７円 </a:t>
            </a:r>
            <a:r>
              <a:rPr b="0" lang="en-US" sz="2800" spc="-1" strike="noStrike">
                <a:solidFill>
                  <a:srgbClr val="ffff66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66"/>
                </a:solidFill>
                <a:latin typeface="Courier New"/>
              </a:rPr>
              <a:t> 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４リットルは１０８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: 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含意</a:t>
            </a: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mplic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ffff66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B</a:t>
            </a: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の証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A</a:t>
            </a: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が成り立つことを仮定して，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B</a:t>
            </a: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が成り立つことを示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一方，常に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A</a:t>
            </a: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が成り立つことが証明できれば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B</a:t>
            </a: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も常に成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８．４　小さな論理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6360" y="1982880"/>
            <a:ext cx="7634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自由変数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(free variable)</a:t>
            </a: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と量限定子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(quantifi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5840" y="2457360"/>
            <a:ext cx="88581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66"/>
                </a:solidFill>
                <a:latin typeface="Courier New"/>
              </a:rPr>
              <a:t>　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x (square x = x*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すべての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x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に対して，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quare x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は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x*x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に等し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76200" y="2510640"/>
            <a:ext cx="2746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66"/>
                </a:solidFill>
                <a:latin typeface="Arial"/>
              </a:rPr>
              <a:t>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6200" y="2495520"/>
            <a:ext cx="884160" cy="392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59160" y="2500200"/>
            <a:ext cx="884520" cy="392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3360" y="3338640"/>
            <a:ext cx="7199280" cy="581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８．５　帰納法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6360" y="1982880"/>
            <a:ext cx="7634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5840" y="2457360"/>
            <a:ext cx="88581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すべての有限リスト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xs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に対して，論理的な属性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P(xs)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成り立つことの証明には，以下を証明することが十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基本の場合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(base case):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P([]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帰納法の段階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(induction step):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P(xs) </a:t>
            </a:r>
            <a:r>
              <a:rPr b="0" lang="en-US" sz="2800" spc="-1" strike="noStrike">
                <a:solidFill>
                  <a:srgbClr val="ffff66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P(x:x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3399"/>
                </a:solidFill>
                <a:latin typeface="Courier New"/>
              </a:rPr>
              <a:t>原始再帰との類似性に注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4964040"/>
            <a:ext cx="4456080" cy="6098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８．５　帰納法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6360" y="1982880"/>
            <a:ext cx="7634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正当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5840" y="2457360"/>
            <a:ext cx="88581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P([])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と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P(xs) </a:t>
            </a:r>
            <a:r>
              <a:rPr b="0" lang="en-US" sz="2800" spc="-1" strike="noStrike">
                <a:solidFill>
                  <a:srgbClr val="ffff66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P(x:x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P([1,2,3])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が成り立つ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P([]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P([]) </a:t>
            </a:r>
            <a:r>
              <a:rPr b="0" lang="en-US" sz="2800" spc="-1" strike="noStrike">
                <a:solidFill>
                  <a:srgbClr val="ffff66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P(3:[]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P(3:[]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P(3:[]) </a:t>
            </a:r>
            <a:r>
              <a:rPr b="0" lang="en-US" sz="2800" spc="-1" strike="noStrike">
                <a:solidFill>
                  <a:srgbClr val="ffff66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P(2:3:[]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P(2:3:[]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P(2:3:[]) </a:t>
            </a:r>
            <a:r>
              <a:rPr b="0" lang="en-US" sz="2800" spc="-1" strike="noStrike">
                <a:solidFill>
                  <a:srgbClr val="ffff66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P(1:2:3:[]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P(1:2:3:[]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８．５　帰納法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6360" y="1982880"/>
            <a:ext cx="7634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最初の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5840" y="2457360"/>
            <a:ext cx="88581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doubleAll []     = []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doubleAll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doubleAll (z:zs) = 2*z : doubleAll z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             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doubleAll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um(doubleAll xs) = 2*sum xs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 (sum+dblAl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um(doubleAll []) = 2*sum []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b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um(doubleAll xs) = 2*sum xs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hy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um(doubleAll(x:xs)) = 2*sum(x:xs)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i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８．５　帰納法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6360" y="1982880"/>
            <a:ext cx="7634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基本の場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5840" y="2457360"/>
            <a:ext cx="88581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um (doubleAll []) = 2*sum []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b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um (doubleAll []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 sum []                </a:t>
            </a:r>
            <a:r>
              <a:rPr b="1" lang="ja-JP" sz="2800" spc="-1" strike="noStrike">
                <a:solidFill>
                  <a:srgbClr val="ffff66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doubleAll.1)</a:t>
            </a:r>
            <a:r>
              <a:rPr b="0" lang="ja-JP" sz="2800" spc="-1" strike="noStrike">
                <a:solidFill>
                  <a:srgbClr val="ff3399"/>
                </a:solidFill>
                <a:latin typeface="Courier New"/>
              </a:rPr>
              <a:t>よ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 0                 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sum.1)</a:t>
            </a:r>
            <a:r>
              <a:rPr b="0" lang="ja-JP" sz="2800" spc="-1" strike="noStrike">
                <a:solidFill>
                  <a:srgbClr val="ff3399"/>
                </a:solidFill>
                <a:latin typeface="Courier New"/>
              </a:rPr>
              <a:t>よ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2*sum [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 2 * 0             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sum.1)</a:t>
            </a:r>
            <a:r>
              <a:rPr b="0" lang="ja-JP" sz="2800" spc="-1" strike="noStrike">
                <a:solidFill>
                  <a:srgbClr val="ff3399"/>
                </a:solidFill>
                <a:latin typeface="Courier New"/>
              </a:rPr>
              <a:t>よ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 0                       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*</a:t>
            </a:r>
            <a:r>
              <a:rPr b="0" lang="ja-JP" sz="2800" spc="-1" strike="noStrike">
                <a:solidFill>
                  <a:srgbClr val="ff3399"/>
                </a:solidFill>
                <a:latin typeface="Courier New"/>
              </a:rPr>
              <a:t>よ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８．５　帰納法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6360" y="1982880"/>
            <a:ext cx="7634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帰納法の段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5840" y="2457360"/>
            <a:ext cx="88581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um (doubleAll (x:xs)) = 2*sum (x:x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                     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i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um (doubleAll (x:xs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 sum(2*x : doubleAll xs)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doubleAll.2)</a:t>
            </a:r>
            <a:r>
              <a:rPr b="0" lang="ja-JP" sz="2800" spc="-1" strike="noStrike">
                <a:solidFill>
                  <a:srgbClr val="ff3399"/>
                </a:solidFill>
                <a:latin typeface="Courier New"/>
              </a:rPr>
              <a:t>よ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 2*x + sum (doubleAll xs)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sum.2)</a:t>
            </a:r>
            <a:r>
              <a:rPr b="0" lang="ja-JP" sz="2800" spc="-1" strike="noStrike">
                <a:solidFill>
                  <a:srgbClr val="ff3399"/>
                </a:solidFill>
                <a:latin typeface="Courier New"/>
              </a:rPr>
              <a:t>よ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 2*x + 2*sum xs         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hy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2*sum (x:x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 2*(x + sum xs)    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sum.2)</a:t>
            </a:r>
            <a:r>
              <a:rPr b="0" lang="ja-JP" sz="2800" spc="-1" strike="noStrike">
                <a:solidFill>
                  <a:srgbClr val="ff3399"/>
                </a:solidFill>
                <a:latin typeface="Courier New"/>
              </a:rPr>
              <a:t>よ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 2*x + 2*sum xs                </a:t>
            </a:r>
            <a:r>
              <a:rPr b="1" lang="ja-JP" sz="2800" spc="-1" strike="noStrike">
                <a:solidFill>
                  <a:srgbClr val="ffff66"/>
                </a:solidFill>
                <a:latin typeface="Courier New"/>
              </a:rPr>
              <a:t>　</a:t>
            </a:r>
            <a:r>
              <a:rPr b="0" lang="ja-JP" sz="2800" spc="-1" strike="noStrike">
                <a:solidFill>
                  <a:srgbClr val="ff3399"/>
                </a:solidFill>
                <a:latin typeface="Courier New"/>
              </a:rPr>
              <a:t>算数より</a:t>
            </a:r>
            <a:r>
              <a:rPr b="0" lang="en-US" sz="2800" spc="-1" strike="noStrike">
                <a:solidFill>
                  <a:srgbClr val="ff3399"/>
                </a:solidFill>
                <a:latin typeface="Courier New"/>
              </a:rPr>
              <a:t>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８．５　帰納法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6360" y="1982880"/>
            <a:ext cx="7634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帰納法の証明の発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5840" y="2457360"/>
            <a:ext cx="88581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5000"/>
              </a:lnSpc>
              <a:buClr>
                <a:srgbClr val="ffff66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(base)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(hyp)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(ind)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を明確に記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ffff66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定義中の変数と証明に使う変数は異なるもの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ffff66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関数定義と算数の規則のみが利用可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ffff66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等式を証明するには，両辺を別々に単純化するのが便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ffff66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(ind)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の証明中に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(hyp)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を使用するはず．もし，使用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　なければ恐らく間違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ffff66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証明の各ステップにラベ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８．６　帰納法によるさらなる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…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6360" y="1982880"/>
            <a:ext cx="7634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例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5840" y="2457360"/>
            <a:ext cx="88581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length (xs++ys) = length xs + length 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66"/>
                </a:solidFill>
                <a:latin typeface="Courier New"/>
              </a:rPr>
              <a:t>                    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length.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length []     = 0   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length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length (z:zs) = 1 + length zs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length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[]     ++ zs = zs       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++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(w:ws) ++ zs = w:(ws++zs)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++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８．６　帰納法によるさらなる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…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6360" y="1982880"/>
            <a:ext cx="7634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例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5840" y="2457360"/>
            <a:ext cx="88581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length (xs++ys) = length xs + length 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66"/>
                </a:solidFill>
                <a:latin typeface="Courier New"/>
              </a:rPr>
              <a:t>                    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length.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length([]++ys)=length[]+length ys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b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length(xs++ys)=length xs+length ys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hy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length((x:xs)++ys)=length(x:xs)+length 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                     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i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66"/>
                </a:solidFill>
                <a:latin typeface="Times New Roman"/>
              </a:rPr>
              <a:t>８　プログラムについての推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８．１　定義の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８．２　検査と証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８．３　既定義性，停止性および有限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８．４　小さな論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８．５　帰納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８．６　帰納法によるさらなる証明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８．７　証明の目標の一般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要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８．６　帰納法によるさらなる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…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6360" y="1982880"/>
            <a:ext cx="7634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例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5840" y="2457360"/>
            <a:ext cx="88581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length([]++ys)=length[]+length ys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b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length([]++y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 length ys          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++.1)</a:t>
            </a:r>
            <a:r>
              <a:rPr b="0" lang="ja-JP" sz="2800" spc="-1" strike="noStrike">
                <a:solidFill>
                  <a:srgbClr val="ff3399"/>
                </a:solidFill>
                <a:latin typeface="Courier New"/>
              </a:rPr>
              <a:t>よ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length [] + length 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 0 + length ys  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length.1)</a:t>
            </a:r>
            <a:r>
              <a:rPr b="0" lang="ja-JP" sz="2800" spc="-1" strike="noStrike">
                <a:solidFill>
                  <a:srgbClr val="ff3399"/>
                </a:solidFill>
                <a:latin typeface="Courier New"/>
              </a:rPr>
              <a:t>よ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 length ys                       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 </a:t>
            </a:r>
            <a:r>
              <a:rPr b="0" lang="ja-JP" sz="2800" spc="-1" strike="noStrike">
                <a:solidFill>
                  <a:srgbClr val="ff3399"/>
                </a:solidFill>
                <a:latin typeface="Courier New"/>
              </a:rPr>
              <a:t>算数よ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８．６　帰納法によるさらなる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…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6360" y="1982880"/>
            <a:ext cx="7634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例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5840" y="2457360"/>
            <a:ext cx="88581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length((x:xs)++ys)=length(x:xs)+length 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                     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i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length((x:xs)++y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 length(x:xs++ys)   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++.1)</a:t>
            </a:r>
            <a:r>
              <a:rPr b="0" lang="ja-JP" sz="2800" spc="-1" strike="noStrike">
                <a:solidFill>
                  <a:srgbClr val="ff3399"/>
                </a:solidFill>
                <a:latin typeface="Courier New"/>
              </a:rPr>
              <a:t>よ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 1+length (xs++ys)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length.2)</a:t>
            </a:r>
            <a:r>
              <a:rPr b="0" lang="ja-JP" sz="2800" spc="-1" strike="noStrike">
                <a:solidFill>
                  <a:srgbClr val="ff3399"/>
                </a:solidFill>
                <a:latin typeface="Courier New"/>
              </a:rPr>
              <a:t>よ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 1+length xs+length ys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hyp)</a:t>
            </a:r>
            <a:r>
              <a:rPr b="0" lang="ja-JP" sz="2800" spc="-1" strike="noStrike">
                <a:solidFill>
                  <a:srgbClr val="ff3399"/>
                </a:solidFill>
                <a:latin typeface="Courier New"/>
              </a:rPr>
              <a:t>よ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length (x:xs)+length 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 1+length xs+length ys</a:t>
            </a:r>
            <a:r>
              <a:rPr b="1" lang="ja-JP" sz="2800" spc="-1" strike="noStrike">
                <a:solidFill>
                  <a:srgbClr val="ffff66"/>
                </a:solidFill>
                <a:latin typeface="Courier New"/>
              </a:rPr>
              <a:t>　　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length.2)</a:t>
            </a:r>
            <a:r>
              <a:rPr b="0" lang="ja-JP" sz="2800" spc="-1" strike="noStrike">
                <a:solidFill>
                  <a:srgbClr val="ff3399"/>
                </a:solidFill>
                <a:latin typeface="Courier New"/>
              </a:rPr>
              <a:t>より</a:t>
            </a:r>
            <a:r>
              <a:rPr b="0" lang="en-US" sz="2800" spc="-1" strike="noStrike">
                <a:solidFill>
                  <a:srgbClr val="ff3399"/>
                </a:solidFill>
                <a:latin typeface="Courier New"/>
              </a:rPr>
              <a:t>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８．６　帰納法によるさらなる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…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6360" y="1982880"/>
            <a:ext cx="7634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例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5840" y="2457360"/>
            <a:ext cx="88581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reverse(xs++ys)=reverse ys++reverse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               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reverse+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reverse [] = []    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reverse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reverse (z:zs) = reverse zs ++ [z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               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reverse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509840" y="3578400"/>
          <a:ext cx="6095880" cy="156348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x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66"/>
                      </a:solidFill>
                    </a:lnL>
                    <a:lnR w="18720">
                      <a:solidFill>
                        <a:srgbClr val="ffff66"/>
                      </a:solidFill>
                    </a:lnR>
                    <a:lnT w="18720">
                      <a:solidFill>
                        <a:srgbClr val="ffff66"/>
                      </a:solidFill>
                    </a:lnT>
                    <a:lnB w="1872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66"/>
                      </a:solidFill>
                    </a:lnL>
                    <a:lnR w="18720">
                      <a:solidFill>
                        <a:srgbClr val="ffff66"/>
                      </a:solidFill>
                    </a:lnR>
                    <a:lnT w="18720">
                      <a:solidFill>
                        <a:srgbClr val="ffff66"/>
                      </a:solidFill>
                    </a:lnT>
                    <a:lnB w="1872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66"/>
                      </a:solidFill>
                    </a:lnT>
                    <a:lnB w="1872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66"/>
                      </a:solidFill>
                    </a:lnT>
                    <a:lnB w="1872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           </a:t>
                      </a: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66"/>
                      </a:solidFill>
                    </a:lnL>
                    <a:lnR w="18720">
                      <a:solidFill>
                        <a:srgbClr val="ffff66"/>
                      </a:solidFill>
                    </a:lnR>
                    <a:lnT w="18720">
                      <a:solidFill>
                        <a:srgbClr val="ffff66"/>
                      </a:solidFill>
                    </a:lnT>
                    <a:lnB w="1872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           </a:t>
                      </a: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x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66"/>
                      </a:solidFill>
                    </a:lnL>
                    <a:lnR w="18720">
                      <a:solidFill>
                        <a:srgbClr val="ffff66"/>
                      </a:solidFill>
                    </a:lnR>
                    <a:lnT w="18720">
                      <a:solidFill>
                        <a:srgbClr val="ffff66"/>
                      </a:solidFill>
                    </a:lnT>
                    <a:lnB w="18720">
                      <a:solidFill>
                        <a:srgbClr val="ffff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1" name=""/>
          <p:cNvGrpSpPr/>
          <p:nvPr/>
        </p:nvGrpSpPr>
        <p:grpSpPr>
          <a:xfrm>
            <a:off x="1684440" y="3822840"/>
            <a:ext cx="5692680" cy="1071360"/>
            <a:chOff x="1684440" y="3822840"/>
            <a:chExt cx="5692680" cy="1071360"/>
          </a:xfrm>
        </p:grpSpPr>
        <p:sp>
          <p:nvSpPr>
            <p:cNvPr id="162" name=""/>
            <p:cNvSpPr/>
            <p:nvPr/>
          </p:nvSpPr>
          <p:spPr>
            <a:xfrm>
              <a:off x="2162160" y="3828960"/>
              <a:ext cx="2192400" cy="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184720" y="3822840"/>
              <a:ext cx="2192400" cy="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84440" y="4894200"/>
              <a:ext cx="2192400" cy="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07000" y="4887720"/>
              <a:ext cx="2192400" cy="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25880" y="4109760"/>
              <a:ext cx="2828880" cy="507600"/>
            </a:xfrm>
            <a:prstGeom prst="line">
              <a:avLst/>
            </a:prstGeom>
            <a:ln w="38160">
              <a:solidFill>
                <a:srgbClr val="ffff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3115800" y="4084560"/>
              <a:ext cx="2860920" cy="539280"/>
            </a:xfrm>
            <a:prstGeom prst="line">
              <a:avLst/>
            </a:prstGeom>
            <a:ln w="38160">
              <a:solidFill>
                <a:srgbClr val="ffff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８．６　帰納法によるさらなる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…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6360" y="1982880"/>
            <a:ext cx="7634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例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5840" y="2457360"/>
            <a:ext cx="88581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reverse(xs++ys)=reverse ys++reverse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               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reverse+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reverse([]++ys)=reverse ys++reverse [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                    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b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reverse(xs++ys)=reverse ys++reverse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                     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hy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reverse((x:xs)++y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reverse ys++reverse(x:xs)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i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８．６　帰納法によるさらなる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…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6360" y="1982880"/>
            <a:ext cx="7634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例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5840" y="2457360"/>
            <a:ext cx="88581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reverse([]++ys)=reverse ys++reverse [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                    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b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reverse([]++y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 reverse ys         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++.1)</a:t>
            </a:r>
            <a:r>
              <a:rPr b="0" lang="ja-JP" sz="2800" spc="-1" strike="noStrike">
                <a:solidFill>
                  <a:srgbClr val="ff3399"/>
                </a:solidFill>
                <a:latin typeface="Courier New"/>
              </a:rPr>
              <a:t>よ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reverse ys++reverse [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 reverse ys++[]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reverse.1)</a:t>
            </a:r>
            <a:r>
              <a:rPr b="0" lang="ja-JP" sz="2800" spc="-1" strike="noStrike">
                <a:solidFill>
                  <a:srgbClr val="ff3399"/>
                </a:solidFill>
                <a:latin typeface="Courier New"/>
              </a:rPr>
              <a:t>よ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８．６　帰納法によるさらなる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…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6360" y="1982880"/>
            <a:ext cx="7634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例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5840" y="2457360"/>
            <a:ext cx="88581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reverse((x:xs)++y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 reverse ys ++ reverse (x:xs)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i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reverse((x:xs)++y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 reverse (x:(xs++ys))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++.1)</a:t>
            </a:r>
            <a:r>
              <a:rPr b="0" lang="ja-JP" sz="2800" spc="-1" strike="noStrike">
                <a:solidFill>
                  <a:srgbClr val="ff3399"/>
                </a:solidFill>
                <a:latin typeface="Courier New"/>
              </a:rPr>
              <a:t>よ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 reverse (xs++ys) ++ [x]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reverse.2)</a:t>
            </a:r>
            <a:r>
              <a:rPr b="0" lang="ja-JP" sz="2800" spc="-1" strike="noStrike">
                <a:solidFill>
                  <a:srgbClr val="ff3399"/>
                </a:solidFill>
                <a:latin typeface="Courier New"/>
              </a:rPr>
              <a:t>よ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 (reverse ys ++ reverse xs) ++ [x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                  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hyp)</a:t>
            </a:r>
            <a:r>
              <a:rPr b="0" lang="ja-JP" sz="2800" spc="-1" strike="noStrike">
                <a:solidFill>
                  <a:srgbClr val="ff3399"/>
                </a:solidFill>
                <a:latin typeface="Courier New"/>
              </a:rPr>
              <a:t>よ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８．６　帰納法によるさらなる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…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6360" y="1982880"/>
            <a:ext cx="7634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例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5840" y="2457360"/>
            <a:ext cx="88581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reverse((x:xs)++y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 reverse ys ++ reverse (x:xs)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b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reverse ys ++ reverse (x:x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 reverse ys ++ (reverse xs ++ [x]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            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reverse.2)</a:t>
            </a:r>
            <a:r>
              <a:rPr b="0" lang="ja-JP" sz="2800" spc="-1" strike="noStrike">
                <a:solidFill>
                  <a:srgbClr val="ff3399"/>
                </a:solidFill>
                <a:latin typeface="Courier New"/>
              </a:rPr>
              <a:t>よ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xs ++ (ys ++ zs) = (xs ++ ys) ++ zs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++.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８．７　証明の目標の一般化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6360" y="1982880"/>
            <a:ext cx="7634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退避関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5840" y="2457360"/>
            <a:ext cx="88581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hunt :: [a] -&gt; [a] -&gt; [a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hunt []     ys = ys 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shunt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hunt (x:xs) ys = shunt xs (x:y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                 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shunt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hunt [2,3,1] [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hunt [3,1] [2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hunt [1] [3,2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hunt [] [1,3,2]   [1,3,2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17600" y="5384880"/>
            <a:ext cx="577800" cy="119160"/>
            <a:chOff x="417600" y="5384880"/>
            <a:chExt cx="577800" cy="119160"/>
          </a:xfrm>
        </p:grpSpPr>
        <p:sp>
          <p:nvSpPr>
            <p:cNvPr id="184" name=""/>
            <p:cNvSpPr/>
            <p:nvPr/>
          </p:nvSpPr>
          <p:spPr>
            <a:xfrm>
              <a:off x="417600" y="538488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872280" y="544896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11120" y="5921280"/>
            <a:ext cx="577800" cy="119160"/>
            <a:chOff x="411120" y="5921280"/>
            <a:chExt cx="577800" cy="119160"/>
          </a:xfrm>
        </p:grpSpPr>
        <p:sp>
          <p:nvSpPr>
            <p:cNvPr id="187" name=""/>
            <p:cNvSpPr/>
            <p:nvPr/>
          </p:nvSpPr>
          <p:spPr>
            <a:xfrm>
              <a:off x="411120" y="592128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865800" y="598536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04640" y="6458040"/>
            <a:ext cx="577800" cy="118800"/>
            <a:chOff x="404640" y="6458040"/>
            <a:chExt cx="577800" cy="118800"/>
          </a:xfrm>
        </p:grpSpPr>
        <p:sp>
          <p:nvSpPr>
            <p:cNvPr id="190" name=""/>
            <p:cNvSpPr/>
            <p:nvPr/>
          </p:nvSpPr>
          <p:spPr>
            <a:xfrm>
              <a:off x="404640" y="6458040"/>
              <a:ext cx="461880" cy="11880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859320" y="652176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4441680" y="6451560"/>
            <a:ext cx="577800" cy="119160"/>
            <a:chOff x="4441680" y="6451560"/>
            <a:chExt cx="577800" cy="119160"/>
          </a:xfrm>
        </p:grpSpPr>
        <p:sp>
          <p:nvSpPr>
            <p:cNvPr id="193" name=""/>
            <p:cNvSpPr/>
            <p:nvPr/>
          </p:nvSpPr>
          <p:spPr>
            <a:xfrm>
              <a:off x="4441680" y="645156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896360" y="651564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８．７　証明の目標の一般化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6360" y="1982880"/>
            <a:ext cx="7634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退避関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5840" y="2457360"/>
            <a:ext cx="88581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hunt :: [a] -&gt; [a] -&gt; [a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hunt []     ys = ys 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shunt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hunt (x:xs) ys = shunt xs (x:y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                 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shunt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rev :: [a] -&gt; [a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rev xs = shunt xs []   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rev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８．７　証明の目標の一般化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6360" y="1982880"/>
            <a:ext cx="7634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第１の試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5840" y="2457360"/>
            <a:ext cx="88581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rev (rev xs) = xs        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Q(x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rev (rev []) = []       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b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rev (rev xs) = xs        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hy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rev (rev (x:xs)) = x:xs  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i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８．１　定義の理解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関数がすることの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5840" y="2457360"/>
            <a:ext cx="721368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lvl="1" marL="457200">
              <a:lnSpc>
                <a:spcPct val="200000"/>
              </a:lnSpc>
              <a:buClr>
                <a:srgbClr val="ffff66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  <a:ea typeface="ＭＳ Ｐゴシック"/>
              </a:rPr>
              <a:t>Hugs</a:t>
            </a:r>
            <a:r>
              <a:rPr b="0" lang="ja-JP" sz="2800" spc="-1" strike="noStrike">
                <a:solidFill>
                  <a:srgbClr val="ffff66"/>
                </a:solidFill>
                <a:latin typeface="Times New Roman"/>
                <a:ea typeface="ＭＳ Ｐゴシック"/>
              </a:rPr>
              <a:t>による実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200000"/>
              </a:lnSpc>
              <a:buClr>
                <a:srgbClr val="ffff66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  <a:ea typeface="ＭＳ Ｐゴシック"/>
              </a:rPr>
              <a:t>行ごとの手計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200000"/>
              </a:lnSpc>
              <a:buClr>
                <a:srgbClr val="ffff66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  <a:ea typeface="ＭＳ Ｐゴシック"/>
              </a:rPr>
              <a:t>一般的な議論　</a:t>
            </a:r>
            <a:r>
              <a:rPr b="0" lang="en-US" sz="2800" spc="-1" strike="noStrike">
                <a:solidFill>
                  <a:srgbClr val="ff3399"/>
                </a:solidFill>
                <a:latin typeface="Times New Roman"/>
                <a:ea typeface="ＭＳ Ｐゴシック"/>
              </a:rPr>
              <a:t>⇒</a:t>
            </a:r>
            <a:r>
              <a:rPr b="0" lang="ja-JP" sz="2800" spc="-1" strike="noStrike">
                <a:solidFill>
                  <a:srgbClr val="ff3399"/>
                </a:solidFill>
                <a:latin typeface="Times New Roman"/>
                <a:ea typeface="ＭＳ Ｐゴシック"/>
              </a:rPr>
              <a:t>プログラムの性質についての証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09840" y="4498920"/>
            <a:ext cx="5542200" cy="55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８．７　証明の目標の一般化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6360" y="1982880"/>
            <a:ext cx="7634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第１の試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5840" y="2457360"/>
            <a:ext cx="88581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rev (rev []) = []       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b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rev (rev []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 rev (shunt [] []) 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rev.1)</a:t>
            </a:r>
            <a:r>
              <a:rPr b="0" lang="ja-JP" sz="2800" spc="-1" strike="noStrike">
                <a:solidFill>
                  <a:srgbClr val="ff3399"/>
                </a:solidFill>
                <a:latin typeface="Courier New"/>
              </a:rPr>
              <a:t>よ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 rev []          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shunt.1)</a:t>
            </a:r>
            <a:r>
              <a:rPr b="0" lang="ja-JP" sz="2800" spc="-1" strike="noStrike">
                <a:solidFill>
                  <a:srgbClr val="ff3399"/>
                </a:solidFill>
                <a:latin typeface="Courier New"/>
              </a:rPr>
              <a:t>よ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 shunt [] []       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rev.1)</a:t>
            </a:r>
            <a:r>
              <a:rPr b="0" lang="ja-JP" sz="2800" spc="-1" strike="noStrike">
                <a:solidFill>
                  <a:srgbClr val="ff3399"/>
                </a:solidFill>
                <a:latin typeface="Courier New"/>
              </a:rPr>
              <a:t>よ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 []              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shunt.1)</a:t>
            </a:r>
            <a:r>
              <a:rPr b="0" lang="ja-JP" sz="2800" spc="-1" strike="noStrike">
                <a:solidFill>
                  <a:srgbClr val="ff3399"/>
                </a:solidFill>
                <a:latin typeface="Courier New"/>
              </a:rPr>
              <a:t>よ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８．７　証明の目標の一般化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6360" y="1982880"/>
            <a:ext cx="7634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第１の試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5840" y="2457360"/>
            <a:ext cx="88581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rev (rev (x:xs)) = x:xs  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i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rev (rev (x:xs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 shunt (shunt (x:xs) []) []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rev.1)</a:t>
            </a:r>
            <a:r>
              <a:rPr b="0" lang="ja-JP" sz="2800" spc="-1" strike="noStrike">
                <a:solidFill>
                  <a:srgbClr val="ff3399"/>
                </a:solidFill>
                <a:latin typeface="Courier New"/>
              </a:rPr>
              <a:t>よ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 shunt (shunt xs [x]) []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shunt.2)</a:t>
            </a:r>
            <a:r>
              <a:rPr b="0" lang="ja-JP" sz="2800" spc="-1" strike="noStrike">
                <a:solidFill>
                  <a:srgbClr val="ff3399"/>
                </a:solidFill>
                <a:latin typeface="Courier New"/>
              </a:rPr>
              <a:t>よ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hunt (shunt xs ys) [] = shunt ys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の証明を目指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８．７　証明の目標の一般化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6360" y="1982880"/>
            <a:ext cx="7634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第２の試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5840" y="2457360"/>
            <a:ext cx="88581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hunt (shunt xs ys) [] = shunt ys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hunt(shunt [] ys) [] = shunt ys []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b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hunt(shunt xs ys) [] = shunt ys xs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hy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hunt(shunt (x:xs) ys) [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 shunt ys (x:xs)      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i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８．７　証明の目標の一般化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6360" y="1982880"/>
            <a:ext cx="7634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第２の試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85840" y="2457360"/>
            <a:ext cx="88581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hunt(shunt (x:xs) ys) [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 shunt ys (x:xs)      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i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hunt(shunt (x:xs) ys) [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 shunt (shunt xs (x:ys)) []</a:t>
            </a:r>
            <a:r>
              <a:rPr b="1" lang="ja-JP" sz="2800" spc="-1" strike="noStrike">
                <a:solidFill>
                  <a:srgbClr val="ffff66"/>
                </a:solidFill>
                <a:latin typeface="Courier New"/>
              </a:rPr>
              <a:t>　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shunt.2)</a:t>
            </a:r>
            <a:r>
              <a:rPr b="0" lang="ja-JP" sz="2800" spc="-1" strike="noStrike">
                <a:solidFill>
                  <a:srgbClr val="ff3399"/>
                </a:solidFill>
                <a:latin typeface="Courier New"/>
              </a:rPr>
              <a:t>よ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hunt(shunt xs ys) [] = shunt ys xs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hy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 shunt (x:ys)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57120" y="6211800"/>
            <a:ext cx="3692520" cy="458640"/>
            <a:chOff x="357120" y="6211800"/>
            <a:chExt cx="3692520" cy="458640"/>
          </a:xfrm>
        </p:grpSpPr>
        <p:sp>
          <p:nvSpPr>
            <p:cNvPr id="214" name=""/>
            <p:cNvSpPr/>
            <p:nvPr/>
          </p:nvSpPr>
          <p:spPr>
            <a:xfrm>
              <a:off x="363600" y="6211800"/>
              <a:ext cx="3686040" cy="45108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357120" y="6219360"/>
              <a:ext cx="3686400" cy="45108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８．７　証明の目標の一般化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6360" y="1982880"/>
            <a:ext cx="7634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成功の試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5840" y="2457360"/>
            <a:ext cx="88581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zs(shunt (shunt xs zs) [] = shunt zs x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zs(shunt (shunt [] zs) [] = shunt zs []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      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   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b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zs(shunt (shunt xs zs) [] = shunt zs x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      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    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hy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zs(shunt (shunt (x:xs) zs) [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 shunt zs (x:xs))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           (i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376200" y="2610720"/>
            <a:ext cx="2746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66"/>
                </a:solidFill>
                <a:latin typeface="Arial"/>
              </a:rPr>
              <a:t>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355680" y="3648240"/>
            <a:ext cx="274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66"/>
                </a:solidFill>
                <a:latin typeface="Arial"/>
              </a:rPr>
              <a:t>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49200" y="4726800"/>
            <a:ext cx="2746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66"/>
                </a:solidFill>
                <a:latin typeface="Arial"/>
              </a:rPr>
              <a:t>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43080" y="5777640"/>
            <a:ext cx="2743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66"/>
                </a:solidFill>
                <a:latin typeface="Arial"/>
              </a:rPr>
              <a:t>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８．７　証明の目標の一般化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6360" y="1982880"/>
            <a:ext cx="7634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成功の試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5840" y="2457360"/>
            <a:ext cx="88581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zs(shunt (shunt [] zs) [] = shunt zs []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      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   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b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z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hunt (shunt [] zs) [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 shunt zs []     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shunt.1)</a:t>
            </a:r>
            <a:r>
              <a:rPr b="0" lang="ja-JP" sz="2800" spc="-1" strike="noStrike">
                <a:solidFill>
                  <a:srgbClr val="ff3399"/>
                </a:solidFill>
                <a:latin typeface="Courier New"/>
              </a:rPr>
              <a:t>よ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76200" y="2610720"/>
            <a:ext cx="2746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66"/>
                </a:solidFill>
                <a:latin typeface="Arial"/>
              </a:rPr>
              <a:t>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55680" y="3648240"/>
            <a:ext cx="274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66"/>
                </a:solidFill>
                <a:latin typeface="Arial"/>
              </a:rPr>
              <a:t>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８．７　証明の目標の一般化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6360" y="1982880"/>
            <a:ext cx="7634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成功の試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5840" y="2457360"/>
            <a:ext cx="88581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zs(shunt (shunt (x:xs)</a:t>
            </a:r>
            <a:r>
              <a:rPr b="1" lang="ja-JP" sz="2800" spc="-1" strike="noStrike">
                <a:solidFill>
                  <a:srgbClr val="ffff66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zs) [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 shunt zs (x:xs))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            (i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z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hunt (shunt (x:xs) zs) [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 shunt (shunt xs (x:zs)) []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shunt.2)</a:t>
            </a:r>
            <a:r>
              <a:rPr b="0" lang="ja-JP" sz="2800" spc="-1" strike="noStrike">
                <a:solidFill>
                  <a:srgbClr val="ff3399"/>
                </a:solidFill>
                <a:latin typeface="Courier New"/>
              </a:rPr>
              <a:t>よ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 shunt (x:zs) xs     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hyp)</a:t>
            </a:r>
            <a:r>
              <a:rPr b="0" lang="ja-JP" sz="2800" spc="-1" strike="noStrike">
                <a:solidFill>
                  <a:srgbClr val="ff3399"/>
                </a:solidFill>
                <a:latin typeface="Courier New"/>
              </a:rPr>
              <a:t>よ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 shunt zs (x:xs)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shunt.2)</a:t>
            </a:r>
            <a:r>
              <a:rPr b="0" lang="ja-JP" sz="2800" spc="-1" strike="noStrike">
                <a:solidFill>
                  <a:srgbClr val="ff3399"/>
                </a:solidFill>
                <a:latin typeface="Courier New"/>
              </a:rPr>
              <a:t>より</a:t>
            </a:r>
            <a:r>
              <a:rPr b="0" lang="en-US" sz="2800" spc="-1" strike="noStrike">
                <a:solidFill>
                  <a:srgbClr val="ff3399"/>
                </a:solidFill>
                <a:latin typeface="Courier New"/>
              </a:rPr>
              <a:t>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76200" y="2610720"/>
            <a:ext cx="2746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66"/>
                </a:solidFill>
                <a:latin typeface="Arial"/>
              </a:rPr>
              <a:t>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55680" y="3648240"/>
            <a:ext cx="274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66"/>
                </a:solidFill>
                <a:latin typeface="Arial"/>
              </a:rPr>
              <a:t>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８．７　証明の目標の一般化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6360" y="1982880"/>
            <a:ext cx="7634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成功の試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84440" y="2716200"/>
            <a:ext cx="0" cy="396072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19040" y="6310440"/>
            <a:ext cx="612468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81400" y="2700360"/>
            <a:ext cx="5035320" cy="3112920"/>
          </a:xfrm>
          <a:custGeom>
            <a:avLst/>
            <a:gdLst/>
            <a:ahLst/>
            <a:rect l="l" t="t" r="r" b="b"/>
            <a:pathLst>
              <a:path w="3172" h="1513">
                <a:moveTo>
                  <a:pt x="0" y="905"/>
                </a:moveTo>
                <a:cubicBezTo>
                  <a:pt x="416" y="1209"/>
                  <a:pt x="833" y="1513"/>
                  <a:pt x="1362" y="1362"/>
                </a:cubicBezTo>
                <a:cubicBezTo>
                  <a:pt x="1891" y="1211"/>
                  <a:pt x="2531" y="605"/>
                  <a:pt x="3172" y="0"/>
                </a:cubicBezTo>
              </a:path>
            </a:pathLst>
          </a:custGeom>
          <a:noFill/>
          <a:ln w="381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84440" y="6330960"/>
            <a:ext cx="57610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Arial"/>
              </a:rPr>
              <a:t>定理の主張の強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85680" y="2703600"/>
            <a:ext cx="64476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Arial"/>
              </a:rPr>
              <a:t>定理の証明のしやす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379600" y="3398760"/>
            <a:ext cx="5065920" cy="217512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66"/>
                </a:solidFill>
                <a:latin typeface="Times New Roman"/>
              </a:rPr>
              <a:t>要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 marL="116640" indent="-11664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関数についての構造的な帰納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16640" indent="-11664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一般のプレリュード関数による例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８．１　定義の理解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length [x]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5840" y="2457360"/>
            <a:ext cx="862164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length :: [a] -&gt;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length []     = 0   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length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length (x:xs) = 1 + length xs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length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length [2,3,1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1 + length [3,1]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length.2)</a:t>
            </a:r>
            <a:r>
              <a:rPr b="0" lang="ja-JP" sz="2800" spc="-1" strike="noStrike">
                <a:solidFill>
                  <a:srgbClr val="ff3399"/>
                </a:solidFill>
                <a:latin typeface="Courier New"/>
              </a:rPr>
              <a:t>よ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1 + (1 + length [1])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length.2)</a:t>
            </a:r>
            <a:r>
              <a:rPr b="0" lang="ja-JP" sz="2800" spc="-1" strike="noStrike">
                <a:solidFill>
                  <a:srgbClr val="ff3399"/>
                </a:solidFill>
                <a:latin typeface="Arial"/>
              </a:rPr>
              <a:t>よ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1 + (1 + (1 + length []))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length.2)</a:t>
            </a:r>
            <a:r>
              <a:rPr b="0" lang="ja-JP" sz="2800" spc="-1" strike="noStrike">
                <a:solidFill>
                  <a:srgbClr val="ff3399"/>
                </a:solidFill>
                <a:latin typeface="Arial"/>
              </a:rPr>
              <a:t>よ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1 + (1 + (1 + 0))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length.1)</a:t>
            </a:r>
            <a:r>
              <a:rPr b="0" lang="ja-JP" sz="2800" spc="-1" strike="noStrike">
                <a:solidFill>
                  <a:srgbClr val="ff3399"/>
                </a:solidFill>
                <a:latin typeface="Arial"/>
              </a:rPr>
              <a:t>よ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423720" y="4754520"/>
            <a:ext cx="577800" cy="119160"/>
            <a:chOff x="423720" y="4754520"/>
            <a:chExt cx="577800" cy="119160"/>
          </a:xfrm>
        </p:grpSpPr>
        <p:sp>
          <p:nvSpPr>
            <p:cNvPr id="53" name=""/>
            <p:cNvSpPr/>
            <p:nvPr/>
          </p:nvSpPr>
          <p:spPr>
            <a:xfrm>
              <a:off x="423720" y="475452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878400" y="481860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417600" y="5176800"/>
            <a:ext cx="577800" cy="119160"/>
            <a:chOff x="417600" y="5176800"/>
            <a:chExt cx="577800" cy="119160"/>
          </a:xfrm>
        </p:grpSpPr>
        <p:sp>
          <p:nvSpPr>
            <p:cNvPr id="56" name=""/>
            <p:cNvSpPr/>
            <p:nvPr/>
          </p:nvSpPr>
          <p:spPr>
            <a:xfrm>
              <a:off x="417600" y="517680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72280" y="524088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11120" y="5641920"/>
            <a:ext cx="577800" cy="119160"/>
            <a:chOff x="411120" y="5641920"/>
            <a:chExt cx="577800" cy="119160"/>
          </a:xfrm>
        </p:grpSpPr>
        <p:sp>
          <p:nvSpPr>
            <p:cNvPr id="59" name=""/>
            <p:cNvSpPr/>
            <p:nvPr/>
          </p:nvSpPr>
          <p:spPr>
            <a:xfrm>
              <a:off x="411120" y="564192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865800" y="570600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4640" y="6064200"/>
            <a:ext cx="577800" cy="119160"/>
            <a:chOff x="404640" y="6064200"/>
            <a:chExt cx="577800" cy="119160"/>
          </a:xfrm>
        </p:grpSpPr>
        <p:sp>
          <p:nvSpPr>
            <p:cNvPr id="62" name=""/>
            <p:cNvSpPr/>
            <p:nvPr/>
          </p:nvSpPr>
          <p:spPr>
            <a:xfrm>
              <a:off x="404640" y="606420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859320" y="612828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398520" y="6500880"/>
            <a:ext cx="577800" cy="119160"/>
            <a:chOff x="398520" y="6500880"/>
            <a:chExt cx="577800" cy="119160"/>
          </a:xfrm>
        </p:grpSpPr>
        <p:sp>
          <p:nvSpPr>
            <p:cNvPr id="65" name=""/>
            <p:cNvSpPr/>
            <p:nvPr/>
          </p:nvSpPr>
          <p:spPr>
            <a:xfrm>
              <a:off x="398520" y="650088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853200" y="656496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８．１　定義の理解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1960" y="1982880"/>
            <a:ext cx="91569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length [x] = 1    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length.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5840" y="2457360"/>
            <a:ext cx="862164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length :: [a] -&gt;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length []     = 0   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length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length (x:xs) = 1 + length xs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length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length [x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 length (x:[])           </a:t>
            </a:r>
            <a:r>
              <a:rPr b="1" lang="ja-JP" sz="2800" spc="-1" strike="noStrike">
                <a:solidFill>
                  <a:srgbClr val="ffff66"/>
                </a:solidFill>
                <a:latin typeface="Courier New"/>
              </a:rPr>
              <a:t>　</a:t>
            </a:r>
            <a:r>
              <a:rPr b="1" lang="ja-JP" sz="2000" spc="-1" strike="noStrike">
                <a:solidFill>
                  <a:srgbClr val="ffff66"/>
                </a:solidFill>
                <a:latin typeface="Courier New"/>
              </a:rPr>
              <a:t>　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[x]</a:t>
            </a:r>
            <a:r>
              <a:rPr b="0" lang="ja-JP" sz="2800" spc="-1" strike="noStrike">
                <a:solidFill>
                  <a:srgbClr val="ff3399"/>
                </a:solidFill>
                <a:latin typeface="Courier New"/>
              </a:rPr>
              <a:t>の定義よ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 1 + length []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length.2)</a:t>
            </a:r>
            <a:r>
              <a:rPr b="0" lang="ja-JP" sz="2800" spc="-1" strike="noStrike">
                <a:solidFill>
                  <a:srgbClr val="ff3399"/>
                </a:solidFill>
                <a:latin typeface="Courier New"/>
              </a:rPr>
              <a:t>よ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 1 + 0        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length.1)</a:t>
            </a:r>
            <a:r>
              <a:rPr b="0" lang="ja-JP" sz="2800" spc="-1" strike="noStrike">
                <a:solidFill>
                  <a:srgbClr val="ff3399"/>
                </a:solidFill>
                <a:latin typeface="Courier New"/>
              </a:rPr>
              <a:t>よ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８．２　検査と証明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6360" y="1982880"/>
            <a:ext cx="7634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ysteryMax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に対する証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5840" y="2457360"/>
            <a:ext cx="88581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ysteryMax :: Int -&gt; Int -&gt; Int -&gt;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ysteryMax x y 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x &gt; y &amp;&amp; x &gt; z    =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y &gt; x &amp;&amp; y &gt; z    =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otherwise         = 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x &gt; y &amp;&amp; x &gt; z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x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x == y &amp;&amp; y == z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y &gt; x &amp;&amp; y &gt; z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y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y == z &amp;&amp; z &gt; x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z &gt; x &amp;&amp; z &gt; y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z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x == y &amp;&amp; y &gt; z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                  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16280" y="5094360"/>
            <a:ext cx="390600" cy="3776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86040" y="5094360"/>
            <a:ext cx="406440" cy="406440"/>
          </a:xfrm>
          <a:prstGeom prst="ellipse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24200" y="5545080"/>
            <a:ext cx="390600" cy="37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93960" y="5545080"/>
            <a:ext cx="406440" cy="406440"/>
          </a:xfrm>
          <a:prstGeom prst="ellipse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18080" y="5996160"/>
            <a:ext cx="390240" cy="3776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87840" y="5996160"/>
            <a:ext cx="406440" cy="406080"/>
          </a:xfrm>
          <a:prstGeom prst="ellipse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616960" y="5054760"/>
            <a:ext cx="390600" cy="3776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586720" y="5054760"/>
            <a:ext cx="406440" cy="406080"/>
          </a:xfrm>
          <a:prstGeom prst="ellipse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624880" y="5521320"/>
            <a:ext cx="390600" cy="37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594640" y="5521320"/>
            <a:ext cx="406440" cy="406440"/>
          </a:xfrm>
          <a:prstGeom prst="ellipse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618400" y="5987880"/>
            <a:ext cx="390600" cy="37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2764200">
            <a:off x="8560800" y="5921280"/>
            <a:ext cx="479520" cy="479160"/>
          </a:xfrm>
          <a:prstGeom prst="plus">
            <a:avLst>
              <a:gd name="adj" fmla="val 40398"/>
            </a:avLst>
          </a:prstGeom>
          <a:gradFill rotWithShape="0">
            <a:gsLst>
              <a:gs pos="0">
                <a:srgbClr val="751746"/>
              </a:gs>
              <a:gs pos="100000">
                <a:srgbClr val="ff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78520" y="3079800"/>
            <a:ext cx="3076560" cy="166824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3399"/>
                </a:solidFill>
                <a:latin typeface="Arial"/>
              </a:rPr>
              <a:t>すべての場合をつくせば証明でき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3399"/>
                </a:solidFill>
                <a:latin typeface="Arial"/>
              </a:rPr>
              <a:t>証明できない場合は問題点を指摘でき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８．３　既定義性，停止性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…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6360" y="1982880"/>
            <a:ext cx="7634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既定義性と停止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5840" y="2457360"/>
            <a:ext cx="88581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式の評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66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  <a:ea typeface="ＭＳ Ｐゴシック"/>
              </a:rPr>
              <a:t>停止す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66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  <a:ea typeface="ＭＳ Ｐゴシック"/>
              </a:rPr>
              <a:t>永遠に続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act :: Int -&gt;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act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n==0       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otherwise   = n * fact (n-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act 2   2            fact (-2)   ..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695600" y="6483240"/>
            <a:ext cx="577800" cy="119160"/>
            <a:chOff x="1695600" y="6483240"/>
            <a:chExt cx="577800" cy="119160"/>
          </a:xfrm>
        </p:grpSpPr>
        <p:sp>
          <p:nvSpPr>
            <p:cNvPr id="90" name=""/>
            <p:cNvSpPr/>
            <p:nvPr/>
          </p:nvSpPr>
          <p:spPr>
            <a:xfrm>
              <a:off x="1695600" y="648324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150280" y="654732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975360" y="6491160"/>
            <a:ext cx="577800" cy="119160"/>
            <a:chOff x="6975360" y="6491160"/>
            <a:chExt cx="577800" cy="119160"/>
          </a:xfrm>
        </p:grpSpPr>
        <p:sp>
          <p:nvSpPr>
            <p:cNvPr id="93" name=""/>
            <p:cNvSpPr/>
            <p:nvPr/>
          </p:nvSpPr>
          <p:spPr>
            <a:xfrm>
              <a:off x="6975360" y="649116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7430040" y="655524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5761080" y="4108320"/>
            <a:ext cx="3208320" cy="2292480"/>
            <a:chOff x="5761080" y="4108320"/>
            <a:chExt cx="3208320" cy="2292480"/>
          </a:xfrm>
        </p:grpSpPr>
        <p:sp>
          <p:nvSpPr>
            <p:cNvPr id="96" name=""/>
            <p:cNvSpPr/>
            <p:nvPr/>
          </p:nvSpPr>
          <p:spPr>
            <a:xfrm>
              <a:off x="5761080" y="4108320"/>
              <a:ext cx="3208320" cy="782640"/>
            </a:xfrm>
            <a:prstGeom prst="rect">
              <a:avLst/>
            </a:prstGeom>
            <a:noFill/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ff3399"/>
                  </a:solidFill>
                  <a:latin typeface="Arial"/>
                </a:rPr>
                <a:t>未定義</a:t>
              </a:r>
              <a:r>
                <a:rPr b="1" lang="en-US" sz="2800" spc="-1" strike="noStrike">
                  <a:solidFill>
                    <a:srgbClr val="ff3399"/>
                  </a:solidFill>
                  <a:latin typeface="Times New Roman"/>
                </a:rPr>
                <a:t>(undefined)</a:t>
              </a:r>
              <a:r>
                <a:rPr b="1" lang="en-US" sz="2800" spc="-1" strike="noStrike">
                  <a:solidFill>
                    <a:srgbClr val="ff3399"/>
                  </a:solidFill>
                  <a:latin typeface="Symbol"/>
                  <a:ea typeface="Symbol"/>
                </a:rPr>
                <a:t>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199280" y="4905360"/>
              <a:ext cx="581040" cy="149544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８．３　既定義性，停止性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…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6360" y="1982880"/>
            <a:ext cx="7634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既定義性と停止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5840" y="2457360"/>
            <a:ext cx="88581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証明を記述するとき，値が定義されていると仮定する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0 *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0     (e </a:t>
            </a:r>
            <a:r>
              <a:rPr b="1" lang="en-US" sz="2800" spc="-1" strike="noStrike">
                <a:solidFill>
                  <a:srgbClr val="ffff66"/>
                </a:solidFill>
                <a:latin typeface="Symbol"/>
                <a:ea typeface="Symbol"/>
              </a:rPr>
              <a:t></a:t>
            </a:r>
            <a:r>
              <a:rPr b="1" lang="ja-JP" sz="2800" spc="-1" strike="noStrike">
                <a:solidFill>
                  <a:srgbClr val="ffff66"/>
                </a:solidFill>
                <a:latin typeface="Times New Roman"/>
              </a:rPr>
              <a:t>　</a:t>
            </a:r>
            <a:r>
              <a:rPr b="0" lang="en-US" sz="2800" spc="-1" strike="noStrike">
                <a:solidFill>
                  <a:srgbClr val="ffff66"/>
                </a:solidFill>
                <a:latin typeface="Symbol"/>
                <a:ea typeface="Symbol"/>
              </a:rPr>
              <a:t>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0 *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Symbol"/>
                <a:ea typeface="Symbol"/>
              </a:rPr>
              <a:t>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(e </a:t>
            </a:r>
            <a:r>
              <a:rPr b="1" lang="en-US" sz="2800" spc="-1" strike="noStrike">
                <a:solidFill>
                  <a:srgbClr val="ffff66"/>
                </a:solidFill>
                <a:latin typeface="Symbol"/>
                <a:ea typeface="Symbol"/>
              </a:rPr>
              <a:t></a:t>
            </a:r>
            <a:r>
              <a:rPr b="1" lang="ja-JP" sz="2800" spc="-1" strike="noStrike">
                <a:solidFill>
                  <a:srgbClr val="ffff66"/>
                </a:solidFill>
                <a:latin typeface="Courier New"/>
              </a:rPr>
              <a:t>　</a:t>
            </a:r>
            <a:r>
              <a:rPr b="1" lang="en-US" sz="2800" spc="-1" strike="noStrike">
                <a:solidFill>
                  <a:srgbClr val="ffff66"/>
                </a:solidFill>
                <a:latin typeface="Symbol"/>
                <a:ea typeface="Symbol"/>
              </a:rPr>
              <a:t>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17600" y="3913200"/>
            <a:ext cx="577800" cy="119160"/>
            <a:chOff x="417600" y="3913200"/>
            <a:chExt cx="577800" cy="119160"/>
          </a:xfrm>
        </p:grpSpPr>
        <p:sp>
          <p:nvSpPr>
            <p:cNvPr id="102" name=""/>
            <p:cNvSpPr/>
            <p:nvPr/>
          </p:nvSpPr>
          <p:spPr>
            <a:xfrm>
              <a:off x="417600" y="391320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872280" y="397728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385920" y="5241960"/>
            <a:ext cx="577800" cy="119160"/>
            <a:chOff x="385920" y="5241960"/>
            <a:chExt cx="577800" cy="119160"/>
          </a:xfrm>
        </p:grpSpPr>
        <p:sp>
          <p:nvSpPr>
            <p:cNvPr id="105" name=""/>
            <p:cNvSpPr/>
            <p:nvPr/>
          </p:nvSpPr>
          <p:spPr>
            <a:xfrm>
              <a:off x="385920" y="524196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840600" y="530604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８．３　既定義性，停止性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…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6360" y="1982880"/>
            <a:ext cx="7634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有限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5840" y="2457360"/>
            <a:ext cx="88581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証明を記述時，既定義要素からなる有限長のリストを仮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length [1,2,div 5 0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 = </a:t>
            </a:r>
            <a:r>
              <a:rPr b="1" lang="en-US" sz="2800" spc="-1" strike="noStrike">
                <a:solidFill>
                  <a:srgbClr val="ff3399"/>
                </a:solidFill>
                <a:latin typeface="Symbol"/>
                <a:ea typeface="Symbol"/>
              </a:rPr>
              <a:t>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)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,4,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um [1,2,div 5 0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 = </a:t>
            </a:r>
            <a:r>
              <a:rPr b="1" lang="en-US" sz="2800" spc="-1" strike="noStrike">
                <a:solidFill>
                  <a:srgbClr val="ff3399"/>
                </a:solidFill>
                <a:latin typeface="Symbol"/>
                <a:ea typeface="Symbol"/>
              </a:rPr>
              <a:t>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)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,4,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3399"/>
                </a:solidFill>
                <a:latin typeface="Symbol"/>
                <a:ea typeface="Symbol"/>
              </a:rPr>
              <a:t>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遅延評価においては，値が必要とならない限り計算しな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[]     [1,2,3]     [[4,5],[3,2,1],[]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17600" y="3898800"/>
            <a:ext cx="577800" cy="119160"/>
            <a:chOff x="417600" y="3898800"/>
            <a:chExt cx="577800" cy="119160"/>
          </a:xfrm>
        </p:grpSpPr>
        <p:sp>
          <p:nvSpPr>
            <p:cNvPr id="111" name=""/>
            <p:cNvSpPr/>
            <p:nvPr/>
          </p:nvSpPr>
          <p:spPr>
            <a:xfrm>
              <a:off x="417600" y="389880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872280" y="396288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25520" y="5207040"/>
            <a:ext cx="577800" cy="119160"/>
            <a:chOff x="425520" y="5207040"/>
            <a:chExt cx="577800" cy="119160"/>
          </a:xfrm>
        </p:grpSpPr>
        <p:sp>
          <p:nvSpPr>
            <p:cNvPr id="114" name=""/>
            <p:cNvSpPr/>
            <p:nvPr/>
          </p:nvSpPr>
          <p:spPr>
            <a:xfrm>
              <a:off x="425520" y="520704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880200" y="527112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金子敬一</cp:lastModifiedBy>
  <dcterms:modified xsi:type="dcterms:W3CDTF">2009-05-11T11:43:22Z</dcterms:modified>
  <cp:revision>113</cp:revision>
  <dc:subject/>
  <dc:title>PowerPoint Presentation</dc:title>
</cp:coreProperties>
</file>